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7806-5FF2-4C76-B796-03413C68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E044-3F1B-4D21-981D-C8DCE59A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2E8A-FEC3-4268-9C63-0967A72F7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738C-B463-45B6-A4C9-C4019AC74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2C58-6907-4F2A-A230-D917DD6C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F2A5-0EC8-4E5F-BDBE-91F01113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A571-EA37-49C7-BE76-C9EAF8A5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DBFB-69C0-464C-95D0-04DB96A5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74E2-52C8-4BEA-9BB9-81A5743A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1ABB-513D-4857-8308-63E3AB69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286E-0E8C-43E4-BB7E-10CFC3EB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2B7E-27A6-42B5-98B3-DE5F613D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16F9-3172-4874-827E-9B6D7C29E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1" descr=""/>
          <p:cNvPicPr/>
          <p:nvPr/>
        </p:nvPicPr>
        <p:blipFill>
          <a:blip r:embed="rId2"/>
          <a:stretch/>
        </p:blipFill>
        <p:spPr>
          <a:xfrm>
            <a:off x="603360" y="103320"/>
            <a:ext cx="8089920" cy="1974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sramsey\Local Settings\Temporary Internet Files\Content.IE5\726PDIT4\MC900441846[1].wmf"/>
          <p:cNvPicPr/>
          <p:nvPr/>
        </p:nvPicPr>
        <p:blipFill>
          <a:blip r:embed="rId3"/>
          <a:stretch/>
        </p:blipFill>
        <p:spPr>
          <a:xfrm>
            <a:off x="3429000" y="3200400"/>
            <a:ext cx="24177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question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6781680" y="3505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the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1828800" y="21337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e a picture OUTSIDE this box then delete this box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-360" y="7621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 a HIGHER level question combining two or mor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s a strait similar to an isthmus?  Type the answer at the bottom where it says “Click to add note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http://www.worldatlas.com/aatlas/infopage/hormuz.gif"/>
          <p:cNvPicPr/>
          <p:nvPr/>
        </p:nvPicPr>
        <p:blipFill>
          <a:blip r:embed="rId1"/>
          <a:stretch/>
        </p:blipFill>
        <p:spPr>
          <a:xfrm>
            <a:off x="304920" y="3427560"/>
            <a:ext cx="3200400" cy="3193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://www.nasa.gov/images/content/150519main_image_feature_595_ys_4.jpg"/>
          <p:cNvPicPr/>
          <p:nvPr/>
        </p:nvPicPr>
        <p:blipFill>
          <a:blip r:embed="rId2"/>
          <a:stretch/>
        </p:blipFill>
        <p:spPr>
          <a:xfrm>
            <a:off x="4952880" y="3429000"/>
            <a:ext cx="3962520" cy="2971800"/>
          </a:xfrm>
          <a:prstGeom prst="rect">
            <a:avLst/>
          </a:prstGeom>
          <a:ln w="0">
            <a:noFill/>
          </a:ln>
        </p:spPr>
      </p:pic>
      <p:cxnSp>
        <p:nvCxnSpPr>
          <p:cNvPr id="74" name="Straight Arrow Connector 7"/>
          <p:cNvCxnSpPr/>
          <p:nvPr/>
        </p:nvCxnSpPr>
        <p:spPr>
          <a:xfrm flipH="1">
            <a:off x="2208960" y="4190040"/>
            <a:ext cx="1677240" cy="533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5" name="Straight Arrow Connector 8"/>
          <p:cNvCxnSpPr/>
          <p:nvPr/>
        </p:nvCxnSpPr>
        <p:spPr>
          <a:xfrm>
            <a:off x="4038120" y="4191120"/>
            <a:ext cx="2057760" cy="38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6" name="TextBox 10"/>
          <p:cNvSpPr/>
          <p:nvPr/>
        </p:nvSpPr>
        <p:spPr>
          <a:xfrm>
            <a:off x="3581280" y="34290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r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ight Arrow 11"/>
          <p:cNvSpPr/>
          <p:nvPr/>
        </p:nvSpPr>
        <p:spPr>
          <a:xfrm>
            <a:off x="4419720" y="5105520"/>
            <a:ext cx="1066680" cy="15228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 a different  HIGHER level question combining two or mor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Thinking Slide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 a different  HIGHER level question combining two or mor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large, flat area of la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6781680" y="3505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the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2" descr="http://t2.gstatic.com/images?q=tbn:ANd9GcStIihgQTNKQuC9S4yh2T62yid0XoEOrnJWRir0qUk6ABTktFv6gmbm6LF0uA"/>
          <p:cNvPicPr/>
          <p:nvPr/>
        </p:nvPicPr>
        <p:blipFill>
          <a:blip r:embed="rId1"/>
          <a:stretch/>
        </p:blipFill>
        <p:spPr>
          <a:xfrm>
            <a:off x="457200" y="1828800"/>
            <a:ext cx="62546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question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6781680" y="3505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the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1828800" y="21337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e a picture OUTSIDE this box then delete this box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question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6781680" y="3505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the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1828800" y="21337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e a picture OUTSIDE this box then delete this box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question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6781680" y="3505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the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1828800" y="21337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e a picture OUTSIDE this box then delete this box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question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6781680" y="3505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the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1828800" y="21337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e a picture OUTSIDE this box then delete this box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question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6781680" y="3505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the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1828800" y="21337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e a picture OUTSIDE this box then delete this box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question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6781680" y="3505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the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828800" y="21337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e a picture OUTSIDE this box then delete this box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question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6781680" y="3505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the ANSWER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1828800" y="21337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e a picture OUTSIDE this box then delete this box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2:50:16Z</dcterms:created>
  <dc:creator>Barbers Hill ISD</dc:creator>
  <dc:description/>
  <dc:language>en-US</dc:language>
  <cp:lastModifiedBy>poweruser</cp:lastModifiedBy>
  <dcterms:modified xsi:type="dcterms:W3CDTF">2011-09-23T15:55:20Z</dcterms:modified>
  <cp:revision>29</cp:revision>
  <dc:subject/>
  <dc:title>PowerPoint Presentation</dc:title>
</cp:coreProperties>
</file>